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4D1-8980-491F-8772-B75C90C5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903-5E75-42D4-BDDE-DC972CF9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037-B639-4BDA-A8C1-60A87EFA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5D0-FC77-4388-97C8-5385296D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E3F6-1790-4BD8-8532-48330487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1B33-9CAB-47E7-9B4F-018B3ECD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FFC1-937E-4E02-B982-519A348F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870C-2F14-4E31-82D9-6D382C85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1330-A95C-4EBA-BC00-8AB45E1C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5376-8D43-4D9F-BDD7-842F86DA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8188-F371-4791-80F6-E332E04F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739-16D6-4E46-AFF4-15C51771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8370-1808-4C26-9B7C-EE125729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48CF-FD21-44E2-B0CD-17C9269C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751A-8613-4ED4-8E39-A5CB2998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49AA-D8D6-4F67-8B96-96291E15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195C-BDDD-46C6-99F0-4549EE42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11D-BBB0-4E71-8FFD-9DCD89FA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902-BC20-4D06-BA49-7A2F0FCC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59F-3120-450E-A6A7-B8568C77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85D-389A-4800-B308-1C97748F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53F-C253-4464-8C84-C397A122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08E-775B-4C96-9919-7FE4EAF8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09A-21D3-4E38-A136-421C2958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2827-711A-475B-88D0-59AE1AAA96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6B6C-4C96-4887-AF73-7ED0810E5C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ac"/>
                </a:solidFill>
                <a:latin typeface="Tahoma"/>
              </a:rPr>
              <a:t>Me llamo _____________         Clase 8 IM</a:t>
            </a:r>
            <a:br>
              <a:rPr sz="3600"/>
            </a:br>
            <a:r>
              <a:rPr b="0" lang="en-US" sz="3600" spc="-1" strike="noStrike">
                <a:solidFill>
                  <a:srgbClr val="00b0ac"/>
                </a:solidFill>
                <a:latin typeface="Tahoma"/>
              </a:rPr>
              <a:t>La fecha es el 25 de septiembre del 2012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99"/>
                </a:solidFill>
                <a:latin typeface="Tahoma"/>
              </a:rPr>
              <a:t>Propósito # 3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Recuerdas los Pronombres de Objeto Direc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99"/>
                </a:solidFill>
                <a:latin typeface="Tahoma"/>
              </a:rPr>
              <a:t>Actividad In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pia y completa con la forma correcta del verbo en el PRETER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 __________tú ayer? 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(estudi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Yo _________ mucho en clase. 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(particip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Emilio y Julia _________ en la fiesta el sábado. 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(bail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Luisa _________ en la piscina de su tía el verano pasado. 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(nad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Nosotros __________ al fútbol la semana pasada. 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(jug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ahoma"/>
              </a:rPr>
              <a:t>El pronombre de objeto directo</a:t>
            </a:r>
            <a:br>
              <a:rPr sz="4400"/>
            </a:br>
            <a:r>
              <a:rPr b="0" i="1" lang="en-US" sz="3200" spc="-1" strike="noStrike">
                <a:solidFill>
                  <a:srgbClr val="ff3399"/>
                </a:solidFill>
                <a:latin typeface="Tahoma"/>
              </a:rPr>
              <a:t>(Direct Object Pronouns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The Direct Object is the word in the sentence that receives the action of the verb. It answers the question </a:t>
            </a: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what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or </a:t>
            </a: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whom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nd can be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oun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or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prono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ahoma"/>
              </a:rPr>
              <a:t>Lo, La, Los, Las are the Direct Object PRONOUNS. They can </a:t>
            </a: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REPLACE</a:t>
            </a:r>
            <a:r>
              <a:rPr b="1" lang="en-US" sz="2800" spc="-1" strike="noStrike">
                <a:solidFill>
                  <a:srgbClr val="ff7c80"/>
                </a:solidFill>
                <a:latin typeface="Tahoma"/>
              </a:rPr>
              <a:t> either a THING or a PERSON. It </a:t>
            </a:r>
            <a:r>
              <a:rPr b="1" lang="en-US" sz="2800" spc="-1" strike="noStrike" u="sng">
                <a:solidFill>
                  <a:srgbClr val="ff7c80"/>
                </a:solidFill>
                <a:uFillTx/>
                <a:latin typeface="Tahoma"/>
              </a:rPr>
              <a:t>must agree</a:t>
            </a:r>
            <a:r>
              <a:rPr b="1" lang="en-US" sz="2800" spc="-1" strike="noStrike">
                <a:solidFill>
                  <a:srgbClr val="ff7c80"/>
                </a:solidFill>
                <a:latin typeface="Tahoma"/>
              </a:rPr>
              <a:t> with the noun it replaces and it </a:t>
            </a:r>
            <a:r>
              <a:rPr b="1" lang="en-US" sz="2800" spc="-1" strike="noStrike" u="sng">
                <a:solidFill>
                  <a:srgbClr val="ff7c80"/>
                </a:solidFill>
                <a:uFillTx/>
                <a:latin typeface="Tahoma"/>
              </a:rPr>
              <a:t>comes before the ver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¿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o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tom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el exam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i, Jo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lo tom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.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4800600"/>
            <a:ext cx="2057400" cy="45720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657600" y="4495320"/>
            <a:ext cx="152280" cy="3049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124080" y="5105520"/>
            <a:ext cx="15264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55180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Direct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6019920"/>
            <a:ext cx="533520" cy="533160"/>
          </a:xfrm>
          <a:prstGeom prst="ellipse">
            <a:avLst/>
          </a:prstGeom>
          <a:noFill/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553080" y="5714640"/>
            <a:ext cx="304920" cy="304920"/>
          </a:xfrm>
          <a:prstGeom prst="line">
            <a:avLst/>
          </a:prstGeom>
          <a:ln w="284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5181480"/>
            <a:ext cx="1905120" cy="838440"/>
          </a:xfrm>
          <a:prstGeom prst="line">
            <a:avLst/>
          </a:prstGeom>
          <a:ln w="284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5334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Tahoma"/>
              </a:rPr>
              <a:t>Direct object PRO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302000">
            <a:off x="4266360" y="54860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ahoma"/>
              </a:rPr>
              <a:t>RE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8915400" cy="5916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95280" y="5638680"/>
            <a:ext cx="678204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99"/>
                </a:solidFill>
                <a:latin typeface="Tahoma"/>
              </a:rPr>
              <a:t>Pract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8839080" cy="567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95280" y="6019920"/>
            <a:ext cx="678204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800600"/>
            <a:ext cx="678204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752480"/>
            <a:ext cx="55627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Tahoma"/>
              </a:rPr>
              <a:t>Identifica por fav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9080" y="4662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4c0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6480" y="46483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4c00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5240" y="44337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4c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86120" y="48150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4c00"/>
                </a:solidFill>
                <a:latin typeface="Tahoma"/>
              </a:rPr>
              <a:t>4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99"/>
                </a:solidFill>
                <a:latin typeface="Tahoma"/>
              </a:rPr>
              <a:t>Pract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8839080" cy="567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95280" y="6019920"/>
            <a:ext cx="678204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1752480"/>
            <a:ext cx="3429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Tahoma"/>
              </a:rPr>
              <a:t>Identifica por fav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419720"/>
            <a:ext cx="15242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Tahoma"/>
              </a:rPr>
              <a:t>Las b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2438280"/>
            <a:ext cx="15238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Tahoma"/>
              </a:rPr>
              <a:t>Los esquí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114800"/>
            <a:ext cx="15238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ahoma"/>
              </a:rPr>
              <a:t>El traje de ba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152388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ahoma"/>
              </a:rPr>
              <a:t>El bañado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2666880"/>
            <a:ext cx="152424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ahoma"/>
              </a:rPr>
              <a:t>La raque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752480"/>
            <a:ext cx="85345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Tahoma"/>
              </a:rPr>
              <a:t>Copia y remplaza el SUSTANTIVO con un PRONOMBRE de Objeto Dir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ahoma"/>
              </a:rPr>
              <a:t>Rep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280" y="1143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¿Cuales son los Pronombres de Objeto Directo?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What are the Direct Object Pronou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Lo 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La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 Los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 L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¿Como funcionan?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How do they function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- Role                 replaces the nou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- Gender                masculine or feminin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N- Number                singular and plura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- Position                before the verb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ight Arrow 3"/>
          <p:cNvSpPr/>
          <p:nvPr/>
        </p:nvSpPr>
        <p:spPr>
          <a:xfrm>
            <a:off x="1828800" y="3733920"/>
            <a:ext cx="1600200" cy="152280"/>
          </a:xfrm>
          <a:prstGeom prst="rightArrow">
            <a:avLst>
              <a:gd name="adj1" fmla="val 50000"/>
              <a:gd name="adj2" fmla="val 32838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ight Arrow 4"/>
          <p:cNvSpPr/>
          <p:nvPr/>
        </p:nvSpPr>
        <p:spPr>
          <a:xfrm>
            <a:off x="2362320" y="4267080"/>
            <a:ext cx="1600200" cy="152640"/>
          </a:xfrm>
          <a:prstGeom prst="rightArrow">
            <a:avLst>
              <a:gd name="adj1" fmla="val 50000"/>
              <a:gd name="adj2" fmla="val 32761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Arrow 5"/>
          <p:cNvSpPr/>
          <p:nvPr/>
        </p:nvSpPr>
        <p:spPr>
          <a:xfrm>
            <a:off x="2590920" y="4800600"/>
            <a:ext cx="1523880" cy="152280"/>
          </a:xfrm>
          <a:prstGeom prst="rightArrow">
            <a:avLst>
              <a:gd name="adj1" fmla="val 50000"/>
              <a:gd name="adj2" fmla="val 31272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ight Arrow 6"/>
          <p:cNvSpPr/>
          <p:nvPr/>
        </p:nvSpPr>
        <p:spPr>
          <a:xfrm>
            <a:off x="2438280" y="5257800"/>
            <a:ext cx="1524240" cy="152280"/>
          </a:xfrm>
          <a:prstGeom prst="rightArrow">
            <a:avLst>
              <a:gd name="adj1" fmla="val 50000"/>
              <a:gd name="adj2" fmla="val 31280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Tahoma"/>
              </a:rPr>
              <a:t>Carmen baila salsa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- Role                 replaces the nou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- Gender                feminine      /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- Number                sing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- Position                before the ver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Carmen       bai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ight Arrow 3"/>
          <p:cNvSpPr/>
          <p:nvPr/>
        </p:nvSpPr>
        <p:spPr>
          <a:xfrm>
            <a:off x="2057400" y="2819520"/>
            <a:ext cx="1828800" cy="152280"/>
          </a:xfrm>
          <a:prstGeom prst="rightArrow">
            <a:avLst>
              <a:gd name="adj1" fmla="val 50000"/>
              <a:gd name="adj2" fmla="val 30246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ight Arrow 6"/>
          <p:cNvSpPr/>
          <p:nvPr/>
        </p:nvSpPr>
        <p:spPr>
          <a:xfrm>
            <a:off x="2514600" y="3429000"/>
            <a:ext cx="1752480" cy="152280"/>
          </a:xfrm>
          <a:prstGeom prst="rightArrow">
            <a:avLst>
              <a:gd name="adj1" fmla="val 50000"/>
              <a:gd name="adj2" fmla="val 28984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ight Arrow 9"/>
          <p:cNvSpPr/>
          <p:nvPr/>
        </p:nvSpPr>
        <p:spPr>
          <a:xfrm flipV="1">
            <a:off x="2590920" y="3961800"/>
            <a:ext cx="1676160" cy="182520"/>
          </a:xfrm>
          <a:prstGeom prst="rightArrow">
            <a:avLst>
              <a:gd name="adj1" fmla="val 50000"/>
              <a:gd name="adj2" fmla="val 23129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ight Arrow 10"/>
          <p:cNvSpPr/>
          <p:nvPr/>
        </p:nvSpPr>
        <p:spPr>
          <a:xfrm flipV="1">
            <a:off x="2666880" y="4571280"/>
            <a:ext cx="1752840" cy="152280"/>
          </a:xfrm>
          <a:prstGeom prst="rightArrow">
            <a:avLst>
              <a:gd name="adj1" fmla="val 50000"/>
              <a:gd name="adj2" fmla="val 28990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Up Arrow 11"/>
          <p:cNvSpPr/>
          <p:nvPr/>
        </p:nvSpPr>
        <p:spPr>
          <a:xfrm>
            <a:off x="4495680" y="6095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457200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7543800" y="2590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sal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6248520" y="3276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6858000" y="3290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6019920" y="3809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457200" y="763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ahoma"/>
              </a:rPr>
              <a:t>Otro 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ahoma"/>
              </a:rPr>
              <a:t>Tarea #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la hoja distribu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22:03:53Z</dcterms:created>
  <dc:creator>Helen Zumaeta</dc:creator>
  <dc:description/>
  <dc:language>en-US</dc:language>
  <cp:lastModifiedBy>Helen Zumaeta</cp:lastModifiedBy>
  <dcterms:modified xsi:type="dcterms:W3CDTF">2012-09-24T20:19:11Z</dcterms:modified>
  <cp:revision>9</cp:revision>
  <dc:subject/>
  <dc:title>Me llamo _____________         Clase 9 N La fecha es el 21 de septiembre del 2012</dc:title>
</cp:coreProperties>
</file>